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FEA2-6C48-4CE9-A977-FCD474C9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466-1D30-41B0-B30C-78230CB11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5F21-2B27-4E7A-8A55-EFABE442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9A3-FDAF-4FDE-AA3E-1161A798C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5EF-3758-4A9A-839B-DEC52BBD6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4B5C-AB4A-42C4-A98D-22A4C9278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34CF-5AFA-4795-B92E-43F5BAB9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C9DD-D5B2-4729-8C2D-BB882A9E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FED1-F7E8-4A25-B9A9-A6E4B8CC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9CA0-C45C-4D05-9AA6-12263721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0B3-64FF-4784-827B-BA5DC10F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F9D8-EF25-475C-A527-3B812FAE9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129-0EAA-4C24-97BF-57EEB4A72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20C4-2D26-42FB-AFA3-1A158AEE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4115-951B-4886-BFB8-E87156DDA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A9E0-E690-468F-A2B6-E1BF61EC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97E4-2121-4539-9AEC-F31B3D148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EA7E-DAB2-463D-A428-48E2BDFF1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1AD2-286E-4044-8F46-D04E4200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B83B-A8E1-408B-BC6B-E2B84DFEA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8DE-A882-42BE-A56D-F4D2841E0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5602-370B-4242-B00C-5ED3909E3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DF1-6C1C-47FF-A6CD-81C235A3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FC71-A5D8-4F12-8DB1-BA6CEC45F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30E6-B684-437E-ABC6-8C39EF9B0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D4BC-E701-45D1-AB6D-B7C41A6E1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A891-211F-4984-8323-B58AADF59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D6D-ABE5-413E-99AA-6EE946E0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C29F-023E-4813-A13C-F27D9C294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DE2-9568-447F-808F-AA76E11D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543-E0F4-4AB2-AE63-FF1247E5C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8C42-7EA0-4475-9AF3-87A078645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69C-8958-4E82-A02E-388C129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C9E-B007-4D90-9700-8FBD345E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8A5-7BEF-4121-9CF0-C5700E0A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3B2-6344-48F7-AFC0-B0BF6C4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67F-C7CA-47FB-BFCF-3901DEDF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C220-C166-4E09-84F4-D3CC2B0D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711E-76EF-4CFD-B726-F0AD0D96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20DC-A39F-4FE3-9A07-ADE4D88C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5B6-2FF2-4F6D-8769-47BD8278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FF52-5B28-414C-AA42-DF2EB5BE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5055-75D5-4657-A694-181A06D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C73-75DE-42A4-AECC-106F3EEA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6A4E-A1B0-446D-9899-5C2CC7B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54FF-21E5-43EE-BEC1-1FC3CB0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1D4B-7688-46CB-A0D1-0B5A8069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CDAB-4A88-4D9C-8837-6F5BFA54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5522-7326-4001-8EEE-C4D36E0A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433-ABFE-425B-921F-A487AB36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551-EC04-4DAE-8524-C32B685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87B-2DAE-4EB4-8131-FFFAF81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97E-ADA2-4915-AB75-FE39131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48A-C5F4-476D-9A28-4616897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879-3B7D-4320-9836-E4436C62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9B3-2281-4823-8EA9-DC19280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8377-1CF1-4EFD-AE19-6D00353D66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E778-F396-4E7C-A7D3-02C98FA9DD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hool-Based Budget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, Spending, &amp;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952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cisions in an autocra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teachers and other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school-based management council consisting of parents, teachers, community members, classified employe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t Princip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d in planning, spending, and controlling local budgetary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/control expenditures within income allocated to purchase music, instruments, uniforms, transportation co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et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 individual as budget manager for area of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costs related to athletic programs (transportation, coach salaries, officials, uniforms, ticket takers, police, ambulance, doctors, and other expenses for meals and lodgings for athletes and coa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920" y="1599840"/>
            <a:ext cx="624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/Department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manager for grade level o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rvice Director, Director of Custodial &amp; Maintenan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central office staff in determining the needs for their area and make these persons responsible for purchases within the budgeta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/Cert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 integral, important voice in all aspects of budgetary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and supplies necessary to do their support roles efficiently and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Office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on newly available curriculum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funds, controls expenditures, and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a relationship that is interactive, positive, and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ntendent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Board of Ed. to approve school site-ba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the cooperation of all centr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ing the decisions made at the build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, innovator, cheerleader, and defender of site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ormal approval to move to a site-bas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community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Improvemen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 Education Reform Act of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fairness in schools-base decisions which includes school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tep in defining a gap or discrepancy between what is and what should or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all school build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eac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s to meet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end products/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lationships between Central District &amp; Building Site Leve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p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ary al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made for Building Site Lev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ite-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District Office 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budgetary decision making between the school site and central school distric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Related to: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and placement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Planning &amp;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level- matters most directly affecting local school’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level-Employee benef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entral &amp; Site Leve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the board of education to make exceptions or waivers to policies or standard operating procedures for just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eder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-through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ing Iss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ing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budgets-up to 5 year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#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ort survival method of pupi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mployee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# of students with exact programs they will at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, Supplies, Material,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due to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ctivity to take place for future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mployees take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gaps between what is and what sh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identifie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action programs to eliminate existing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Accounting &amp; Budget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legally overexpend its availabl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ions, transfers, expenditures, encumbrances, &amp; unemcumbered balances should be accurately recorded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uditor or Auditing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on the state of the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to the board of education concerning its accounting records &amp;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sic Functions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and resourc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of federal, state, and local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s a gap or discrepancy between what is and what should or could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st of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ng the cost of each identified need for next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’s Actions Related to Each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specific program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ith immediate program or budget adjustments made to satisfy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hen funding is mad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Stud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 enrolled in each grade for 1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subsequent year’s number of students by previous years’ and grades’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verage percentage of survival for the 10 historic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average % of survival against each previous year to determine the number of students in each future year for each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ng Employee Requirements (5 yrs. Fu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jections of student population to determine employees needed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do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Income Requirements (5 years into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#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employees needed in each categ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penses of schoo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estimate for operating th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ETERMINE income required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y of a minimum millage (mill=.001cents) or dollars per hundred dollars of assessed valuation in order to receive state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School District and School Site-Based Budget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ture of parents, citizens, teachers,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evaluated and revi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th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budget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for use to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-2 week period in summer &amp; update by Principal and Central Office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School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ilding Level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ster groups (Cl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ective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ary Plan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education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nticipat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income to programs/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highest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icient Budge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Gener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Management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Activity Income Collection, Accounting, and Depo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ing Bills to Collect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Sum Budge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and Audi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/Object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s are entered under a coded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, Planning, Budgeting, Evaluating System (PPB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Based Budg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 every expenditure requested on the basis of a projected cost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decision-making power to the level closest to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a variety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-Sum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ll persons responsible for budget matters accountable for expenditures decisions and for keeping those decisions within the amount of money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allowing flexibility of expenditure decisions throughout the fisc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EURY</cp:lastModifiedBy>
  <dcterms:modified xsi:type="dcterms:W3CDTF">2008-06-26T16:15:31Z</dcterms:modified>
  <cp:revision>32</cp:revision>
  <dc:subject/>
  <dc:title>PowerPoint Presentation</dc:title>
</cp:coreProperties>
</file>